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29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25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22.jpeg" ContentType="image/jpeg"/>
  <Override PartName="/ppt/media/image1.jpeg" ContentType="image/jpeg"/>
  <Override PartName="/ppt/media/image17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198-A920-4EFF-AB27-740C7CDC5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6E4-8F92-44FE-9916-6FBEB9DD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22D2-338A-4D52-BBF3-A0ACC6E5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CD8C-60BC-40C4-B2EB-219E7CF0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02576-94DC-4BB7-A1C3-A00F11AE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1343-F36D-4FA1-941D-398C66E9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F2C-3138-4E56-BC1C-92FF2CA3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025D3-839A-49A9-A313-71D7A6FD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C204-911D-43B7-BBFC-8D4B7C7F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AA63-BC3A-453F-B23F-E789701D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D914-ECFE-4F58-BA52-51AB04FC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52C0-2026-4B1E-A8FA-392A6DCD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BBEB-5A93-4472-9FFC-67DA116C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B9D2A-3775-439A-843E-BBF314D7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F9E8-AB14-4336-9213-B1FD03B2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656F-E173-453A-AC71-5C2749664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80DA-27C3-4DC3-90BE-1D19B3F4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EC09-9E8D-420D-A337-AAD4873C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856-B99C-4D8A-A224-1D35979E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470-5E3B-4EB9-9C26-866DB962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1B8-568B-4373-AD84-24F2C32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65AE-E5D8-432A-93B3-500EE779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FF0-7539-4BC8-97F0-E417093B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961-7F6E-412D-AEE2-955F96A2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69E98D-4D93-4DD9-9747-7E6D66B00414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103CB-B807-4891-B2AE-B6851E4EED49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FCF835-CB9F-4D5C-AAB5-C8103F3DAC1C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31BB9-9C15-4886-9D51-57001D86A6D8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3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 Part 1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iology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wo Types of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ukaryotic Ce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s a membrane b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bound organelles in the cytoplas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rganelles -  a structure that performs special functions in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karyotic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acteria and Blue-green alga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ck a membrane ar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ains only non-membrane bound organell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366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arates the cell from the environ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gulates what comes in and out of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ains lipids, because lipids do not dissolve in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lipids in a lipid bilay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 proteins throughout the membrane with different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Content Placeholder 3" descr="plasmamembrane3.jpg"/>
          <p:cNvPicPr/>
          <p:nvPr/>
        </p:nvPicPr>
        <p:blipFill>
          <a:blip r:embed="rId2"/>
          <a:srcRect l="-14756" t="0" r="-14756" b="0"/>
          <a:stretch/>
        </p:blipFill>
        <p:spPr>
          <a:xfrm>
            <a:off x="1828800" y="1444680"/>
            <a:ext cx="4803840" cy="2593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plasmamembranefigure1.jpg"/>
          <p:cNvPicPr/>
          <p:nvPr/>
        </p:nvPicPr>
        <p:blipFill>
          <a:blip r:embed="rId3"/>
          <a:stretch/>
        </p:blipFill>
        <p:spPr>
          <a:xfrm>
            <a:off x="1295280" y="4100400"/>
            <a:ext cx="50799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1" name="Content Placeholder 3" descr="Plasma_Membrane_Quiz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-592200" y="1444680"/>
            <a:ext cx="973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ly in plant cells outside the plasma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cellulose and rig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of th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im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ond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s pores for transpor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zonata_3.jpg"/>
          <p:cNvPicPr/>
          <p:nvPr/>
        </p:nvPicPr>
        <p:blipFill>
          <a:blip r:embed="rId2"/>
          <a:srcRect l="-19363" t="0" r="-1936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7" name="Content Placeholder 3" descr="cell_wall-13227.jpg"/>
          <p:cNvPicPr/>
          <p:nvPr/>
        </p:nvPicPr>
        <p:blipFill>
          <a:blip r:embed="rId2"/>
          <a:srcRect l="-25560" t="0" r="-255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plas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verything inside the cell except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ytoplasmic streaming is moving the organelles around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owerhouse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an shap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urn chemical energy in sugar into usable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wo membran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istae – inner membrane with many folds for more surface area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directly from maternal lineag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3" name="Content Placeholder 3" descr="images.jpg"/>
          <p:cNvPicPr/>
          <p:nvPr/>
        </p:nvPicPr>
        <p:blipFill>
          <a:blip r:embed="rId2"/>
          <a:srcRect l="-45511" t="0" r="-45511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images -1.jpg"/>
          <p:cNvPicPr/>
          <p:nvPr/>
        </p:nvPicPr>
        <p:blipFill>
          <a:blip r:embed="rId3"/>
          <a:stretch/>
        </p:blipFill>
        <p:spPr>
          <a:xfrm>
            <a:off x="4950000" y="2481120"/>
            <a:ext cx="3889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tudy of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rst observed and noted by Robert Hooke in 1665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rk cel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amed cells because it looked like rooms in a monaster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87" name="Picture 3" descr="robert hooke.jpg"/>
          <p:cNvPicPr/>
          <p:nvPr/>
        </p:nvPicPr>
        <p:blipFill>
          <a:blip r:embed="rId2"/>
          <a:stretch/>
        </p:blipFill>
        <p:spPr>
          <a:xfrm>
            <a:off x="2971800" y="2730600"/>
            <a:ext cx="184140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hookecork.jpg"/>
          <p:cNvPicPr/>
          <p:nvPr/>
        </p:nvPicPr>
        <p:blipFill>
          <a:blip r:embed="rId3"/>
          <a:stretch/>
        </p:blipFill>
        <p:spPr>
          <a:xfrm>
            <a:off x="5372280" y="2730600"/>
            <a:ext cx="21175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6" name="Content Placeholder 3" descr="mitmor4.jpg"/>
          <p:cNvPicPr/>
          <p:nvPr/>
        </p:nvPicPr>
        <p:blipFill>
          <a:blip r:embed="rId2"/>
          <a:srcRect l="-12666" t="0" r="-12666" b="0"/>
          <a:stretch/>
        </p:blipFill>
        <p:spPr>
          <a:xfrm>
            <a:off x="-380880" y="1600200"/>
            <a:ext cx="5502240" cy="346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Mitochondria simple structure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ibosom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-membrane bound organelle found in prokaryotes and Eukaryo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d to make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 floating or on the 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2 parts (we will discuss this later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 (ER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ound the nucle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has ribosomes on it, smooth ER does no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produces prote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ooth ER produces lipids and hormon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Content Placeholder 3" descr="2820694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ough 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5" name="Content Placeholder 3" descr="rough_er-em.gif"/>
          <p:cNvPicPr/>
          <p:nvPr/>
        </p:nvPicPr>
        <p:blipFill>
          <a:blip r:embed="rId2"/>
          <a:srcRect l="-29852" t="0" r="-2985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nal processing and packaging of produced compoun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PS of the cell, packaging compounds into sac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9" name="Content Placeholder 3" descr="golgi6.jpg"/>
          <p:cNvPicPr/>
          <p:nvPr/>
        </p:nvPicPr>
        <p:blipFill>
          <a:blip r:embed="rId2"/>
          <a:srcRect l="-9844" t="0" r="-9844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1" name="Content Placeholder 3" descr="golgi_2.jpg"/>
          <p:cNvPicPr/>
          <p:nvPr/>
        </p:nvPicPr>
        <p:blipFill>
          <a:blip r:embed="rId2"/>
          <a:srcRect l="-23510" t="0" r="-2351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ysosom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does “lys” mean?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ys means to break dow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eak down invaders, food, old cell compon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ny fibers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ve structures around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7" dur="2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iginal Microscop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0" name="Content Placeholder 3" descr="hookemicro.gif"/>
          <p:cNvPicPr/>
          <p:nvPr/>
        </p:nvPicPr>
        <p:blipFill>
          <a:blip r:embed="rId2"/>
          <a:srcRect l="-46735" t="0" r="-4673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48" name="Picture 3" descr="http://www.ccs.k12.in.us/chsBS/kons/kons/eukaryotic%20cell/cytoplasm_and_its_associated_str_files/image029.jpg"/>
          <p:cNvPicPr/>
          <p:nvPr/>
        </p:nvPicPr>
        <p:blipFill>
          <a:blip r:embed="rId2"/>
          <a:stretch/>
        </p:blipFill>
        <p:spPr>
          <a:xfrm>
            <a:off x="549360" y="1600200"/>
            <a:ext cx="7696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0" name="Content Placeholder 3" descr="cytoskeletonn.jpg"/>
          <p:cNvPicPr/>
          <p:nvPr/>
        </p:nvPicPr>
        <p:blipFill>
          <a:blip r:embed="rId2"/>
          <a:srcRect l="-47577" t="0" r="-47577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cytoskeleton.jpg"/>
          <p:cNvPicPr/>
          <p:nvPr/>
        </p:nvPicPr>
        <p:blipFill>
          <a:blip r:embed="rId3"/>
          <a:stretch/>
        </p:blipFill>
        <p:spPr>
          <a:xfrm>
            <a:off x="4699080" y="2335320"/>
            <a:ext cx="4444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lagella and Cil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gellum is a long ta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lia are short hairs that cover th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6" name="Picture 3" descr="membrane_flow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t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nd in cells of plants, algae and few ot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orage contain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ukoplasts – contain starch or oil for the pla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romoplasts – contain pigm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st known is chloroplas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starch2"/>
          <p:cNvPicPr/>
          <p:nvPr/>
        </p:nvPicPr>
        <p:blipFill>
          <a:blip r:embed="rId3"/>
          <a:stretch/>
        </p:blipFill>
        <p:spPr>
          <a:xfrm>
            <a:off x="0" y="457200"/>
            <a:ext cx="879624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verts light energy into chemical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tball shaped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like the mitochondri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 stru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ylakoids – s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anum – stacks of thylako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oma – flui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– green pig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 – making sug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7" name="Content Placeholder 3" descr="cplastruct.gif"/>
          <p:cNvPicPr/>
          <p:nvPr/>
        </p:nvPicPr>
        <p:blipFill>
          <a:blip r:embed="rId2"/>
          <a:srcRect l="-15525" t="0" r="-1552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9" name="Content Placeholder 3" descr="chloroplast1.gif"/>
          <p:cNvPicPr/>
          <p:nvPr/>
        </p:nvPicPr>
        <p:blipFill>
          <a:blip r:embed="rId2"/>
          <a:srcRect l="-15808" t="0" r="-15808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ther people noticing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euwenhoek saw living organisms in 167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Brown found the nucleus in 1833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oplasm – the “stuff”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1" name="Content Placeholder 3" descr="biol_01_img0077.jpg"/>
          <p:cNvPicPr/>
          <p:nvPr/>
        </p:nvPicPr>
        <p:blipFill>
          <a:blip r:embed="rId2"/>
          <a:srcRect l="-6132" t="0" r="-613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rol cen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NA replication and RNA transcrip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Envelope is a double membrane that surrounds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pores or opening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romatin material – DNA and other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olus – center part of nucleu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5" name="Content Placeholder 3" descr="cell127.gif"/>
          <p:cNvPicPr/>
          <p:nvPr/>
        </p:nvPicPr>
        <p:blipFill>
          <a:blip r:embed="rId2"/>
          <a:srcRect l="0" t="-271" r="0" b="-2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acuo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-bound s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: stora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st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 vacuole in pla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filaments – support network insid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mediate filaments – 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tubules – internal framework for transport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77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9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1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3" dur="77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77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0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2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77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1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3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5" dur="77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77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4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36" dur="77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cell is the basic unit of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perform all the functions of living thing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come from pre-existing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vels of Cellular Organiz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icellular – one – cell organis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lonial organism – a collection of similar cells living together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lti-cellul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ss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Jo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bsor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nthe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Cell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0" name="Content Placeholder 3" descr="structure_animal_ce_c_la_784.jpg"/>
          <p:cNvPicPr/>
          <p:nvPr/>
        </p:nvPicPr>
        <p:blipFill>
          <a:blip r:embed="rId2"/>
          <a:srcRect l="-18797" t="0" r="-18797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nt Cell Anatom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2" name="Content Placeholder 3" descr="anatomy - 1.gif"/>
          <p:cNvPicPr/>
          <p:nvPr/>
        </p:nvPicPr>
        <p:blipFill>
          <a:blip r:embed="rId2"/>
          <a:srcRect l="-26457" t="0" r="-26457" b="0"/>
          <a:stretch/>
        </p:blipFill>
        <p:spPr>
          <a:xfrm>
            <a:off x="-415800" y="1417680"/>
            <a:ext cx="9559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50:23Z</dcterms:created>
  <dc:creator>Jason Cobb</dc:creator>
  <dc:description/>
  <dc:language>en-US</dc:language>
  <cp:lastModifiedBy>Jason Cobb</cp:lastModifiedBy>
  <dcterms:modified xsi:type="dcterms:W3CDTF">2011-10-20T00:03:27Z</dcterms:modified>
  <cp:revision>26</cp:revision>
  <dc:subject/>
  <dc:title>Chapter 3</dc:title>
</cp:coreProperties>
</file>